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2CB-4F8B-45DE-9BDA-92E298DA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5B7-3735-43C8-AE26-976A5106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B0D-9AE0-42F4-BCC4-FBFEEF51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E1C-F2A4-4E8E-BA74-BE8007B4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D09-7B0F-435E-AA2B-E43C4A08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CE1-71A0-473F-88E5-2EA7D017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BF3-7071-4332-BE66-C9998D47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9E1-F358-4828-ABD1-BF1D5A9D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8DF-09E1-414B-A845-5129EAD4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C36-B1CF-4622-BB32-0E2BCCB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197-4ECD-482A-9BC7-1B9AE22D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EC4-0741-4AFA-BE76-DA36B403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6DD2-BB0B-404C-816C-70BA4D7B1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819520"/>
            <a:ext cx="8458200" cy="370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3276720"/>
            <a:ext cx="876312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429000"/>
            <a:ext cx="876312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657600"/>
            <a:ext cx="8686800" cy="2454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5627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914400"/>
            <a:ext cx="3733560" cy="5097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581280"/>
            <a:ext cx="8229600" cy="283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5402160"/>
            <a:ext cx="8915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200400"/>
            <a:ext cx="838188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aracteríst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541840"/>
            <a:ext cx="8458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895480"/>
            <a:ext cx="8686800" cy="3563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Nom cientí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Com 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On vi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590920"/>
            <a:ext cx="8153280" cy="3694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838080"/>
            <a:ext cx="4724280" cy="537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5943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562720"/>
            <a:ext cx="89917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276720"/>
            <a:ext cx="8686800" cy="3288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spec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Reproduc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Alimentaci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333cc"/>
                </a:solidFill>
                <a:latin typeface="Arial"/>
              </a:rPr>
              <a:t>Hàbit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9:59:50Z</dcterms:created>
  <dc:creator>TIC</dc:creator>
  <dc:description/>
  <dc:language>en-US</dc:language>
  <cp:lastModifiedBy>TIC</cp:lastModifiedBy>
  <dcterms:modified xsi:type="dcterms:W3CDTF">2009-06-26T11:53:43Z</dcterms:modified>
  <cp:revision>79</cp:revision>
  <dc:subject/>
  <dc:title>Presentación de PowerPoint</dc:title>
</cp:coreProperties>
</file>